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C46-C9F5-44FB-92AD-9A5AEE4F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E97-8CF0-4CA7-91DC-E282F6BF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F02-7595-465E-9552-34B122C6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D2C-60ED-46F0-B425-F0E71BE3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FB48-AA6B-4DAE-B23E-8989CA80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5FB9-BD62-406B-B479-C360CE6B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6B35-57F9-48CC-A3C9-F0762915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86CA-984B-40B8-94AC-1432117A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2A84-EFF3-4917-B318-270AB44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E61E-406F-487E-94F4-8BC644A6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004B-BA6B-4505-9C03-C977138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3AB-09DD-40C3-AFF9-E875086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5F25-3F64-4280-8227-050160F0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1337-FC92-4FFA-9A71-E5193512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F3F-FA2F-487F-B285-55F838CF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BC9D-DCD1-4DC2-A4D5-A1AD61A4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FC7-9E04-4756-9E21-999B2897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165-4C97-4FDB-A88C-A99D571B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21C-DA7A-44FA-82F0-D3E3F1D8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7B7-4344-4D0C-B7AD-3F010559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769-46FC-49EB-8E93-EFF6FE2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D5E-25FD-4791-8533-72981F8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39B-861C-4AA2-9033-484EAA2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2EC-FEDE-48AA-8E62-A0376AF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7B43-B0B9-4790-80D6-EBE3A26938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A2D-A521-4795-85FF-9B2A0DC4C1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995640" y="5949720"/>
            <a:ext cx="4896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готовила: Студентка 231 группы Гусева Людм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90720" y="1484280"/>
            <a:ext cx="71625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чины мутации ДНК.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то вы знаете о мутации ДНК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195640" y="1700280"/>
            <a:ext cx="5040360" cy="3313080"/>
            <a:chOff x="2195640" y="1700280"/>
            <a:chExt cx="5040360" cy="331308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2195640" y="1700280"/>
              <a:ext cx="50403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 txBox="1"/>
            <p:nvPr/>
          </p:nvSpPr>
          <p:spPr>
            <a:xfrm>
              <a:off x="2195640" y="1700280"/>
              <a:ext cx="5040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нятие «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мутация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Мутация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это стойкое (то есть такое, которое может быть унаследовано потомками данной клетки или организма) изменение генотипа, происходящие под влиянием внешней или внутренней ср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зовите ее классификацию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ен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Хромосом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еном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ные источники мутаци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едные привы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грязнение окружающей ср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ру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41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Мутации ДНК делятся:</a:t>
            </a:r>
            <a:br>
              <a:rPr sz="1600"/>
            </a:br>
            <a:r>
              <a:rPr b="0" i="1" lang="en-US" sz="1600" spc="-1" strike="noStrike" u="sng">
                <a:solidFill>
                  <a:srgbClr val="ff0066"/>
                </a:solidFill>
                <a:uFillTx/>
                <a:latin typeface="Tahoma"/>
              </a:rPr>
              <a:t>Спонтанные мутации</a:t>
            </a: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озникают самопроизвольно на протяжении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сей жизни организма в нормальных для него условиях окружающей среды.</a:t>
            </a:r>
            <a:br>
              <a:rPr sz="1600"/>
            </a:br>
            <a:br>
              <a:rPr sz="1600"/>
            </a:br>
            <a:r>
              <a:rPr b="0" i="1" lang="en-US" sz="1600" spc="-1" strike="noStrike" u="sng">
                <a:solidFill>
                  <a:srgbClr val="ff0066"/>
                </a:solidFill>
                <a:uFillTx/>
                <a:latin typeface="Tahoma"/>
              </a:rPr>
              <a:t>Индуцированными мутациями</a:t>
            </a: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называют наследуемые изменения генома, возникающие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результате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тех или иных мутагенных воздействий в искусственных (экспериментальных) условиях или при неблагоприятных воздействиях окружающей среды. 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50403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6407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Успехов изучение материала!!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184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50:16Z</dcterms:created>
  <dc:creator>www.PHILka.RU</dc:creator>
  <dc:description/>
  <dc:language>en-US</dc:language>
  <cp:lastModifiedBy>www.PHILka.RU</cp:lastModifiedBy>
  <dcterms:modified xsi:type="dcterms:W3CDTF">2009-12-28T13:54:00Z</dcterms:modified>
  <cp:revision>11</cp:revision>
  <dc:subject/>
  <dc:title>Слайд 1</dc:title>
</cp:coreProperties>
</file>